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E4ED-9CB7-42F7-869F-7DC6E112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9C7A-1B30-4C3D-A0BC-09C55863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DC51-CD64-46C3-AC48-2C5604FAA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E685-0E23-4BDD-BEF7-92D8E4290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5BB9-C17D-46B6-AA46-15049779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AACB-AAA1-4D81-9A7C-9031C47A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DF0C-C6DF-48E2-A88C-31775FAF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5ED6-FEE0-4391-B417-059BEE5B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B534-D92B-42BE-9EFD-AB4C1780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1F38-90AD-4B8C-87D4-036B31F9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3008-97C8-4122-AA50-25B6F2EA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E068-5906-4837-837F-14AE9AF1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2779-8F96-4363-9856-212A5230B20C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omic"/>
              </a:rPr>
              <a:t>CAPITOL 1</a:t>
            </a:r>
            <a:r>
              <a:rPr b="0" lang="ro-RO" sz="44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askerville Old Face"/>
              </a:rPr>
              <a:t>SISTEME DE OPER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askerville Old Face"/>
              </a:rPr>
              <a:t>NAVIGARE W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Baskerville Old Face"/>
              </a:rPr>
              <a:t>CREARE DIRECTOR PROI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1214280" y="1357200"/>
            <a:ext cx="7215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REARE FISIER SUNET  -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magine 1" descr=""/>
          <p:cNvPicPr/>
          <p:nvPr/>
        </p:nvPicPr>
        <p:blipFill>
          <a:blip r:embed="rId1"/>
          <a:stretch/>
        </p:blipFill>
        <p:spPr>
          <a:xfrm>
            <a:off x="571680" y="1285920"/>
            <a:ext cx="4410000" cy="3305160"/>
          </a:xfrm>
          <a:prstGeom prst="rect">
            <a:avLst/>
          </a:prstGeom>
          <a:ln w="0">
            <a:noFill/>
          </a:ln>
        </p:spPr>
      </p:pic>
      <p:pic>
        <p:nvPicPr>
          <p:cNvPr id="47" name="Imagine 4" descr=""/>
          <p:cNvPicPr/>
          <p:nvPr/>
        </p:nvPicPr>
        <p:blipFill>
          <a:blip r:embed="rId2"/>
          <a:stretch/>
        </p:blipFill>
        <p:spPr>
          <a:xfrm>
            <a:off x="4929120" y="2357280"/>
            <a:ext cx="400068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REARE FISIER AUDIO CU FUND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Imagine 4" descr=""/>
          <p:cNvPicPr/>
          <p:nvPr/>
        </p:nvPicPr>
        <p:blipFill>
          <a:blip r:embed="rId1"/>
          <a:stretch/>
        </p:blipFill>
        <p:spPr>
          <a:xfrm>
            <a:off x="357120" y="1428840"/>
            <a:ext cx="3807000" cy="2857320"/>
          </a:xfrm>
          <a:prstGeom prst="rect">
            <a:avLst/>
          </a:prstGeom>
          <a:ln w="0">
            <a:noFill/>
          </a:ln>
        </p:spPr>
      </p:pic>
      <p:pic>
        <p:nvPicPr>
          <p:cNvPr id="50" name="Imagine 10" descr=""/>
          <p:cNvPicPr/>
          <p:nvPr/>
        </p:nvPicPr>
        <p:blipFill>
          <a:blip r:embed="rId2"/>
          <a:stretch/>
        </p:blipFill>
        <p:spPr>
          <a:xfrm>
            <a:off x="4714920" y="1428840"/>
            <a:ext cx="3881520" cy="2916000"/>
          </a:xfrm>
          <a:prstGeom prst="rect">
            <a:avLst/>
          </a:prstGeom>
          <a:ln w="0">
            <a:noFill/>
          </a:ln>
        </p:spPr>
      </p:pic>
      <p:pic>
        <p:nvPicPr>
          <p:cNvPr id="51" name="Imagine 34" descr=""/>
          <p:cNvPicPr/>
          <p:nvPr/>
        </p:nvPicPr>
        <p:blipFill>
          <a:blip r:embed="rId3"/>
          <a:stretch/>
        </p:blipFill>
        <p:spPr>
          <a:xfrm>
            <a:off x="2786040" y="3929040"/>
            <a:ext cx="360540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REARE W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CREARE PAGINI WIKI </a:t>
            </a:r>
            <a:br>
              <a:rPr sz="4000"/>
            </a:b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– ADAUGARE FISI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ADAUGARE IMAGINI SUNETE PE WIK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4" descr="pariswiki.png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POSTARE EVALUARI PE W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4" descr="we.png"/>
          <p:cNvPicPr/>
          <p:nvPr/>
        </p:nvPicPr>
        <p:blipFill>
          <a:blip r:embed="rId1"/>
          <a:stretch/>
        </p:blipFill>
        <p:spPr>
          <a:xfrm>
            <a:off x="1285920" y="1714680"/>
            <a:ext cx="590688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13:45:57Z</dcterms:created>
  <dc:creator>user</dc:creator>
  <dc:description/>
  <dc:language>en-US</dc:language>
  <cp:lastModifiedBy>Anda</cp:lastModifiedBy>
  <dcterms:modified xsi:type="dcterms:W3CDTF">2012-06-17T16:49:18Z</dcterms:modified>
  <cp:revision>4</cp:revision>
  <dc:subject/>
  <dc:title>CAPITOL 1</dc:title>
</cp:coreProperties>
</file>